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5B2B-B215-4BB0-BBE1-47A10C2F5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AF71-B8F0-402D-93E5-70933A6C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A68D-0322-4831-BE7E-E4ECF6F9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6E5D-649E-4C84-9EBE-0AD5CBFA7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4538-1B39-4E15-9BD6-9CFED7B6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F99-73C4-491C-AD52-8BF69FB6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D0ED-BFAB-45E5-841F-484576C5C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1719-86EC-4D66-A399-E7D41CABC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F2D1-715C-410F-9D39-F21355262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E527-060B-474C-9CF2-182F9B396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1D16-4F20-44BD-A337-AE503AA15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A33F-C92E-4958-AD53-188E7309C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DB61-D950-4656-802B-1CCEB6146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96E1-EE11-4D54-A68E-51E8C126E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A9ED-9B3C-4DF1-81F9-12F60A73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5563-3E59-4EFC-92AA-78A4F964F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86B3-7026-47DD-A678-68453A115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634D-8DDD-4212-AEBB-787AE511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3D9-4FE9-42B8-9430-A07D08DE2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24D0-B7D3-4FD4-8B2F-32939DFFF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E7FF-C804-475D-B659-748E56937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4DDC-C7C1-4A5D-BD45-815F644F19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AC0D-96F3-402D-8E7A-1D7B692C74B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7EE6-D15A-477D-9271-EAFE3A9430C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C95C-A56B-4C25-BEFA-C4FD3023DD2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B009-D73A-4ED7-9A41-47B94F583A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3E71-F12F-4F94-A34B-4AF27443FA8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1BCE-2A91-460A-9C2E-A68BB33AF73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DDFC-A0EC-451A-87C7-8FA23F537FF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CC8D-EAE8-4106-839E-0DDA17E995B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5A11-D04B-4B1D-ACFF-B5BF70F590C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8E7E-E2B5-49EA-81B3-B6E4D5ED8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F185-9DBD-4B85-9C0C-F8E71534C8F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7FDC-C72F-4C54-BB71-76C4EFC5A08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CFEF-C1AF-4E0A-98FF-2A72B3F5D7D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0CFD-2700-42F7-85E3-B2758877B4B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8775A-D720-4AE2-9904-0B93D7BB1F1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28500-CA49-4142-855D-BC3E7A1C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FD5D4-6589-4344-9505-13CA2649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D9C06-06F1-4B84-8092-807D5C2B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E0CE7-C25B-413B-954A-C9EA5820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111D4-B375-445F-80FC-8E085A85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8DE6-3329-46BC-B236-E29AB1ECDF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22229-D819-4A33-A956-39B3222E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0C8BDC-A99B-4E30-A8FC-C0068DDE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67A11-DE38-4E6E-94E5-80BF68CD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490E4F-DAC3-41CC-8757-5B6C33A8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4D9223-0452-47BD-B3BF-27C38D81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6F1CD-71E2-430D-952B-CF9169CF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8AF6A-C802-4C57-AFD8-6CF069A4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6125D-75B3-49DA-99F2-62791902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F76FF-C34C-42E8-B096-A885572E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20EE2A-D83A-4466-B76D-CD5266A4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A76BF-090C-4205-B7EB-1A86B983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F3CB55-7BDE-4912-9651-6987D600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172616-8570-44C9-98E0-D3E4987F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16CDEB-38FF-4758-A71C-AE6FB43D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2AF9A-D926-48FE-B410-267A045B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626F4E-8B41-44C4-9EF5-AB9D6E6C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6600F2-80FB-4A48-86D6-7F53DEE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579715-A939-4D39-9B99-47490BCA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E91CB9-B37E-497A-88E8-ED5B3622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E58738-66C5-4103-A48F-5EA452B8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0E073-D17A-4E36-A45B-EA99999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33FD1-01C1-459C-9A80-FC30E9D4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8B8823-2319-4247-962B-CE7B1311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7223ED-4602-4646-9FDA-5621D5B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8B5449-9F3D-45FD-ABB5-7BBD9AF6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3A0F46-B9CB-4C29-B2B7-3BC40384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F11FFA-4922-4D51-BFA5-894E98F2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48376-318D-499A-94A6-93CAFFB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0C958-CEBE-4D3F-B437-1891622F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1707F-1111-4939-BA90-674C9C4A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D1E7B-40DA-43E0-920B-A8DD9B7D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F1DD1-6F80-4513-AC3C-37202FC9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734DB-7002-4C93-AC69-C469DC6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D0105-87D4-4F89-8DC1-FABC926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2899-A5E9-4C41-AC71-5CFA9ABBA5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3C417-FC85-4DDC-8BBE-7846A48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49F5A-A251-454C-B951-E850356F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6152F-C12C-41C5-9938-F55C0765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04C64-2DBF-408E-8D1C-7F855F7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E3370-0F23-49FE-A462-0E15250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06BBE-1F31-4535-A057-65E1AC58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300D7-2BDB-49E5-90CF-9B18811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C988D-6176-4E86-908A-370ABEAD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ADA1D-353B-427B-9F45-88183CA0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F4E6D-A0F9-4000-A253-93ED565A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2220-5047-4393-BE83-13732293CD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C1148-AD00-4DB7-BB7F-DBD78AB2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BB042-E66B-45E8-A2BC-A35AD478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DC153-D27D-4375-940F-C2CCE232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F3ABC-15CC-44B9-BA6B-2B7281F3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7390A-AA3E-4E61-9CFA-C365A19C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5E47C-9185-4166-9535-D853A8C5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B1794-FC29-406D-9430-6016DDA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BB3B0-AD83-452E-AC11-962EBC3C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E4F74-F3D9-494C-AC8D-DD667ABF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4FD30-4E2A-45C7-84F7-6A518D08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BF44-9E55-4E9A-BA74-F517A3B1E0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073C5-A70B-4807-9A21-333DB2A2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3D74E-8AE2-48FC-BBDA-D453B02F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30587-5188-4A4F-B52D-96B73F4F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E08A5-BF95-4E64-8221-6A0B7F85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048ED-B2CA-4FE3-A3FC-8F0F16F7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E3501-6FE3-4386-ABC0-61074D91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FEAE3-5844-41FB-90F6-F15B077B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B1A5A-1CE2-456F-9F5C-7C8307E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97BD4-AFBF-4844-B9AE-AC88CBC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F7725-22E3-47AB-9049-603D927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3137-D6A4-406A-A097-057835D2DA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06852-0022-4660-B21B-01CE8E54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4D279-711C-4205-9B6E-D86E1603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59513-2DFB-4949-A16C-1333B075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CC7D28-BB55-43A8-A084-DD59E61D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2F22C-F4A0-414F-80B4-C0F51B09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40E23-6189-4BBF-B167-B9134504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B631F-C9B1-46F8-8590-FC81F26C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361FF-EACE-42D9-ACDF-B2E214F7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292AC-36AC-414A-9C9C-F1C38C1F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E36CE-33B9-40AE-ABD8-786CC3D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FF17-E82B-4CE4-9053-D56E83BB7FA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664DF-A490-4A82-8058-14058654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28045-24F5-48B1-BAC7-48B34267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7DDF9-CB45-45F2-8E7B-6A90F09A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2EB50-3EDD-4288-A071-65041892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13FE7-547D-4508-8210-E4712501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926B6-AA77-4F36-9518-B38660D1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65FE4-F374-4ED0-A3C2-EA8E936A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4D9FD-7985-4AAC-BC80-45A6F87E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986A9-AF5E-4A3B-8F87-BE568A33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D0F9F-DF47-4444-A7C1-963CAF53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F8EC-D20B-4934-9E82-F118692629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A12B0-3DCE-499A-9315-E6CD1D53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43118-59CF-4F9D-98E9-76C1B4FC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01FCB-06A4-4E43-BDD2-6AEEEDE4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FB502-C63E-45AC-B098-25A493A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736A4-EB90-45C7-9F18-06D1D7E9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28707-3EB7-4710-9ECE-7588AD5F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0326E-58E6-40D8-8941-5FBB8345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A2E4-11C1-45C1-9E89-09E299DEA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6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46D7-88F9-446D-9125-563D56EB7B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0D6E-A9CD-4F83-A54F-5C3F958243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6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8BBB-6D7D-409A-A49C-1E4C399E6F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6424-556F-49B1-9B4C-36BBD58D99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F985-7C88-4A0B-AF57-D7E8867802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F09F-31BA-460A-98EB-E36461B8D7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4CDD-1216-4E3D-A49B-A036EDBE37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5484-B0BB-4938-9FC5-AC8D7E8B83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9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D104-0051-4F77-98D0-77DA582422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Rectangle 8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56920" cy="11700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3" descr=""/>
          <p:cNvPicPr/>
          <p:nvPr/>
        </p:nvPicPr>
        <p:blipFill>
          <a:blip r:embed="rId2"/>
          <a:stretch/>
        </p:blipFill>
        <p:spPr>
          <a:xfrm>
            <a:off x="1465200" y="1676520"/>
            <a:ext cx="6213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Rectangle 2" descr=""/>
          <p:cNvPicPr/>
          <p:nvPr/>
        </p:nvPicPr>
        <p:blipFill>
          <a:blip r:embed="rId1"/>
          <a:stretch/>
        </p:blipFill>
        <p:spPr>
          <a:xfrm>
            <a:off x="208080" y="-152280"/>
            <a:ext cx="8723160" cy="187776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 txBox="1"/>
          <p:nvPr/>
        </p:nvSpPr>
        <p:spPr>
          <a:xfrm>
            <a:off x="533160" y="20570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have a 401(k) plan, you can set up Payroll Items to track the employee contributions (salary deferral) to the pl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8" name="Picture 4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786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ayroll Setup Interview will walk you through creating items to track and pay vacation or sick p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have a “Paid Time Off (PTO)” policy instead of separate sick and vacation time you can use either Sick or Vacation time to keep track of PT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you have set up your Payroll Items, you can set up each employee’s payroll reco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3" name="Picture 4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4457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6"/>
          <p:cNvSpPr/>
          <p:nvPr/>
        </p:nvSpPr>
        <p:spPr>
          <a:xfrm>
            <a:off x="289872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Picture 4" descr=""/>
          <p:cNvPicPr/>
          <p:nvPr/>
        </p:nvPicPr>
        <p:blipFill>
          <a:blip r:embed="rId2"/>
          <a:stretch/>
        </p:blipFill>
        <p:spPr>
          <a:xfrm>
            <a:off x="1351080" y="1676520"/>
            <a:ext cx="6441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Rectangle 2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448840" cy="1573560"/>
          </a:xfrm>
          <a:prstGeom prst="rect">
            <a:avLst/>
          </a:prstGeom>
          <a:ln w="0">
            <a:noFill/>
          </a:ln>
        </p:spPr>
      </p:pic>
      <p:sp>
        <p:nvSpPr>
          <p:cNvPr id="1248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set up vendors for payroll liabilities, continue with the payroll Setup Intervie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9" name="Picture 4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2296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are setting up your own payroll in the middle of the fiscal year, you’ll need to enter the year-to-date payroll information for each of your employee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befo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ntering your first paychec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3" name=""/>
          <p:cNvSpPr txBox="1"/>
          <p:nvPr/>
        </p:nvSpPr>
        <p:spPr>
          <a:xfrm>
            <a:off x="457200" y="17524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ault settings for each new employ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4" name="Picture 4" descr=""/>
          <p:cNvPicPr/>
          <p:nvPr/>
        </p:nvPicPr>
        <p:blipFill>
          <a:blip r:embed="rId2"/>
          <a:stretch/>
        </p:blipFill>
        <p:spPr>
          <a:xfrm>
            <a:off x="1409760" y="2743200"/>
            <a:ext cx="6324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2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view all employees, including deactivated employees, display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mployee lis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click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clude inact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x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7" name="Picture 4" descr="C:\Users\DPEMBR~1\AppData\Local\Temp\SNAGHTML176df9c.PNG"/>
          <p:cNvPicPr/>
          <p:nvPr/>
        </p:nvPicPr>
        <p:blipFill>
          <a:blip r:embed="rId2"/>
          <a:stretch/>
        </p:blipFill>
        <p:spPr>
          <a:xfrm>
            <a:off x="744480" y="3733920"/>
            <a:ext cx="7655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t up payroll accounts in the Chart of Accou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derstand Payroll I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Payroll Setup Interview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to add payroll i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 the Payroll Setup Interview to add employee recor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t up Employee Defaul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un Employee Repor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t up payroll accounts in the Chart of Accou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derstand Payroll I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Payroll Setup Interview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to add payroll i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 the Payroll Setup Interview to add employee recor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t up Employee Defaul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un Employee Repor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 payroll choic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ual Payro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c Payrol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hanced Payrol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line Payro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sisted Payro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Gather information about each of your employe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ctivate the Payroll func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et up payroll accou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nable your QuickBooks file for payroll processing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Use the Payroll Setup Interview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dd additional payroll items directly into Payroll Item Lis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dit payroll items to modify the vendor information and the way it affects the Chart of Accou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f setting up mid-year, enter year-to-date information for each employee and enter year-to-date liability payme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Verify payroll item setup, employee setup, and the vendor lis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oof your setup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Rectangle 2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roll Liability Accou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roll Expense Accou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22" name="Picture 5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429080" cy="165744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6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45338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25" name="Rectangle 10"/>
          <p:cNvSpPr/>
          <p:nvPr/>
        </p:nvSpPr>
        <p:spPr>
          <a:xfrm>
            <a:off x="2743200" y="459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6" name="Picture 4" descr=""/>
          <p:cNvPicPr/>
          <p:nvPr/>
        </p:nvPicPr>
        <p:blipFill>
          <a:blip r:embed="rId2"/>
          <a:stretch/>
        </p:blipFill>
        <p:spPr>
          <a:xfrm>
            <a:off x="531720" y="1752480"/>
            <a:ext cx="808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nterview is optional, but very helpful and works even if you have existing payro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ing the Payroll Setup Inter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mployees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nu, 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ayrol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etu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11"/>
          <p:cNvSpPr/>
          <p:nvPr/>
        </p:nvSpPr>
        <p:spPr>
          <a:xfrm>
            <a:off x="2565360" y="42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Picture 4" descr=""/>
          <p:cNvPicPr/>
          <p:nvPr/>
        </p:nvPicPr>
        <p:blipFill>
          <a:blip r:embed="rId2"/>
          <a:stretch/>
        </p:blipFill>
        <p:spPr>
          <a:xfrm>
            <a:off x="1382760" y="1714680"/>
            <a:ext cx="63784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ree ways to allocate costs between the company and the employe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mpany could pay the entire expen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mpany and employee could share the expen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employee could pay the entire expen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4040" indent="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the costs are shared between the company and the employees, or if the employees pay for the entire cost via payroll deductions, use a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Deduction Ite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o track the deduc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8:47:32Z</dcterms:created>
  <dc:creator>The Sleeter Group, Inc.</dc:creator>
  <dc:description/>
  <dc:language>en-US</dc:language>
  <cp:lastModifiedBy>Deborah Pembrook</cp:lastModifiedBy>
  <dcterms:modified xsi:type="dcterms:W3CDTF">2011-12-09T05:37:53Z</dcterms:modified>
  <cp:revision>171</cp:revision>
  <dc:subject/>
  <dc:title>Chapter 5 Payroll Setup </dc:title>
</cp:coreProperties>
</file>